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2F6-3130-449B-AB12-FCFF96AE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056-5EE5-4369-A997-DFC598F1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B89-36C6-49E4-A50E-590BD7C4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890-306B-4094-A681-E634932E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E1A-0F84-4DD5-B808-E674F9BD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35F-30B7-445B-9A08-C2556907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524-1D24-435F-96A6-2ECB9A48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7DF-2CAA-4FA1-87AA-AD93EB84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5AC-47A3-42AB-96C2-F9AF7EFC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36A-6F64-486A-9D11-48CAB851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1B6-E1D2-463A-AFB5-DC6407B7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C80-9240-4845-AED5-76F6B1F9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0204-25FA-485D-A479-453989C8B1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pecial and Vulnerable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.K. Pachauri is talking about, that inaction would allow that the weather to change and is incapable of being chan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bated-at full of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upt-change in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versible-incapable of being reve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6:43:44Z</dcterms:created>
  <dc:creator>PA Department of Education</dc:creator>
  <dc:description/>
  <dc:language>en-US</dc:language>
  <cp:lastModifiedBy>PA Department of Education</cp:lastModifiedBy>
  <dcterms:modified xsi:type="dcterms:W3CDTF">2009-05-27T16:44:48Z</dcterms:modified>
  <cp:revision>4</cp:revision>
  <dc:subject/>
  <dc:title>Special and Vulnerable </dc:title>
</cp:coreProperties>
</file>